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pct" ContentType="image/x-pict"/>
  <Override PartName="/ppt/media/image1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dt" idx="28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ftr" idx="29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 type="sldNum" idx="30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84968-5AF7-4A4D-86F7-820AB11F2D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4EAE0-5B3F-42E3-9F53-05988EBB18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23620-D292-4D28-84E0-807B50F9C2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07FA1-E4C3-44F3-9BFC-EB9A4E166A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977F3-CA74-43B9-83C2-E045D1945B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8A1AC-A71C-4DBB-8DBD-2BF1E4812E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57F4F-ABF9-467F-8DA0-396452EB99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B2C85-C980-4F9F-AFB7-218E11F6BF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F6670-3A53-4551-A92A-8C50AA3BCC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2FBB6-6F88-4720-AFEB-A2895F802F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68A61-73EB-4C22-93C6-7BA17D5B1C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C4F7A-3D65-4A43-992B-418AFA26BF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5ADC6-E732-4211-8EC6-ED60E4C145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AB4-0A5D-49A1-B781-AD627B4F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47C3-3177-4CAA-9B25-5A215617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800F0-4FAA-4F47-A2FC-411B23DE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4F4FF-5F52-4DC8-9ED1-D465749F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4B3A7-561F-4FB9-AE9E-8FC23FFF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A638B-0FC5-4C23-901C-DFB867F3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2795D-4E3B-4DF7-9DEF-A8D7994A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B8F4D-F21C-48A9-B3F6-6A56DD49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7E04B-656E-49DB-87FF-A1826F43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87214-3757-4033-B7CE-1EE46DCF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408A6-B846-4A1E-B83A-2AC61AF7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03D3-522D-4906-A8C6-06232482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52C-E2A0-434D-B0A1-74FD8F88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31A9-1199-426F-9C77-0264239E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001D-89A7-4F10-99DC-28070F7C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A5F6-DA85-4773-9172-04668F8A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F7AC-E9B6-45CC-BFBB-7714E8F8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ADEA-AA0E-4C52-B0D2-3341C284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10FB-D775-42AA-A87E-9FDB6358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A5E0-D6C2-4AB2-9C1C-729014DA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D57-F140-4F4A-AA5B-3BB2F3DE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D5DB-9BBF-41CD-80BB-E6C762A1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70CF-8B93-4301-816F-400409A6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D626-1FB3-4BCE-B70D-D7794481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51DD-A579-4189-ACD0-7A63A6DA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D599-7B50-402D-8693-D666DF48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8302D-DA5D-44C6-9C74-2E8F6827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5F802-9D0B-43FF-A400-F6258D1A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95C14-ABE1-4858-A4DF-7F8F3DBA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72F2E-0BA1-41F8-ACB2-437FA302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B21F2-6A5B-4145-8F13-F97972B1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C92-CA3F-4A64-B181-667A3A09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29C26-DE21-41A3-A7A2-3404428C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E5E26-AAC0-4B1C-ACC4-4FB4084A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13B88-442A-41EE-8F4F-FAF5D5AE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DF0EA-5B7B-4B1E-B52B-14A4F186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A5DAC-1AAF-43AD-A643-35B011DB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E2E17-1A05-4975-9BE2-9F51D820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64568-61BA-4E9D-8BC7-6D8DA441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EABBE-32B3-4569-9F40-F0BCE2F2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76EC4-EBA8-4A90-A974-CBCE8C4A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A2C53-DFA3-4EFC-9F6D-D26875B2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153C-22FF-4303-91D0-4F9D90C3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931EE-19B3-497D-8427-846FA4C9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6CC74-D59E-475E-99D2-854D30B7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22148-B029-4D89-A93F-6F17C90D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5723C-4FCF-49F7-AC66-33E46F8F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1FEC7-4969-4A02-92A6-C5DFA23C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56C8A-949C-4D2C-A4D0-9C98241C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13C95-47DD-46A7-94CB-36736049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8167E-6B80-43F2-A30C-9DD922EC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D1A14-0E11-4FD1-8839-3C24F97A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D8425-38D0-4394-B373-665BBE98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E84-DE21-45D4-838A-C65B34BA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94FC5-E671-49AB-A283-D351BA86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D4DDE-6B71-4B55-BCA2-E8AE13AF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9F662-3D85-4B56-8E77-6422DCE7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2C904-562F-4B89-870E-0C70C31B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4A40C-12C7-42B1-B854-8869320B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8A0ED-2CD4-4DFE-90EB-85BE6AAE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4D27E-A36A-4C0D-81D9-76B8C83D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9465D-F095-45F1-981B-4FD7C8D4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89A33-8B18-46D6-9013-00D482A7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23937-C5AC-4B13-932A-3FE23145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F1BD-6F22-4B05-9072-F0006DB2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9E04B-110F-4D71-9624-EC9C5B62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8D849-EC42-4B44-823A-E548BA4D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5EE55-0B1A-4B45-BACE-E743D32C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B1452-525F-4F00-8598-A6093D6F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A7300-6093-4946-87C9-ACFE84FA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626C6-DE1F-48B9-8EA9-89859EFA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257AC-FA5E-4760-9B64-4C5EF958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B67BC-16A4-41EF-B4D9-8E2087AB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DB201-A01B-4846-B8DB-59C37ACA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A5CD2-79C7-447F-BEFE-04F0C7BD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4696-EF8E-45D9-8AD2-8CDED3B6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25595-050B-4BC4-8371-5314CFC9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4DF05-4507-4619-9C00-72362A99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A0022-1555-44E8-939D-0C2B02CC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10D73-F5A8-48C2-A690-AEA79B7F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27EA7-474D-462F-9234-B6CF6A9C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DF868-E0A5-422D-A71A-6F0D93A3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4DD56-73ED-4E93-AA1D-B3ED7A8E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9E80E-5CA2-49B4-A8AD-32CE6A93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F81FD-8003-49BA-8B1C-A607B123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93E03-6AA5-4C71-B5A7-087CFA47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A3C9-426B-427E-AA6B-0B863D9C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F29ED-E287-4944-B296-DE7CC3B8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4BD5F-2E19-4C9B-B872-A4E9C6F6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E819C-BAC7-4762-A530-B0694C0E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AC124-B2B4-4F12-829A-88ECBC9A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13070-015B-47A0-924C-828722C6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B04C0-D8E4-4489-B02E-40983B89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690FE-113F-42DA-AC21-E5473C2D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469F1-47C7-4971-B326-6D41916D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497C2-5014-430C-B7B5-C5CD834F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0FF50-C77F-4078-B6C0-AE4CDBE0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7BE-B7D4-4F46-B14C-7F9F4E29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0ACDA-AC5E-4696-B6E6-FCDC3BBE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71C33-A117-4052-A48A-8274615C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8DBFD-3C19-4CE0-A877-CD02E7A8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0EC49-AC4C-42DB-881D-E1C07DAC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18FC3-DFE4-4344-98CC-014D7BED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A65DE-9919-4D82-8376-D2A1E9B6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95D54-83B6-4E34-9458-D0724524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3A028-1DE6-484C-9C12-D96BCBC7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B6C9E-5526-46C1-83A1-02AE9805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1C8E7-D3B7-49AF-869A-57C90AE4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BE324-4662-4982-8B49-72272B5C1E7B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10080720" cy="566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653080"/>
            <a:ext cx="100807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5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6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3B5AA-22AA-4DBF-8E35-8DC6DFD5C7B6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94D6B-5FC2-4953-9ABF-31F80994B12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10080720" cy="286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868480"/>
            <a:ext cx="100807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5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6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841B4-9BDA-4960-8668-F3D43C086072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CC0C9-6D86-4E3C-B54B-DD1DE10B652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F260C-D3D4-4F46-A56F-627170A581DD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147840" y="0"/>
            <a:ext cx="5112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147840" y="0"/>
            <a:ext cx="5112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47FEE-F3CB-4856-BDFC-607F39FCC8A3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3147840" y="0"/>
            <a:ext cx="51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147840" y="0"/>
            <a:ext cx="51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81080" y="1290240"/>
            <a:ext cx="2782800" cy="22068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346560" y="1290240"/>
            <a:ext cx="5726160" cy="220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9192960" y="1290240"/>
            <a:ext cx="809640" cy="22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41787-3D98-467B-A9BA-8F9F7FF00179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7275600" y="0"/>
            <a:ext cx="4896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327800" y="0"/>
            <a:ext cx="2773440" cy="755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911320" y="7029360"/>
            <a:ext cx="4229280" cy="40320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4E28C-FF04-43EE-B30D-39B2D9E74FE1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FBBF0-699C-46CE-BF23-B2B9EACA946C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CBA19-6422-45B4-AEF3-83E732A1C917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0" y="1528560"/>
            <a:ext cx="9072720" cy="58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Support fo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Cloud Resolving Model Simul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VACET All-Hands Mee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IEEE Vis 200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1"/>
          <a:stretch/>
        </p:blipFill>
        <p:spPr>
          <a:xfrm>
            <a:off x="1517760" y="0"/>
            <a:ext cx="73990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Further work w/ Cray on optimizing mpi-io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Finalize data mod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cell/corner/edge/face centered data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alidate NetCDF-4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plugin enhancement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arallelizati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ncorporate morton-order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9082080" cy="1280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502920" y="1768320"/>
            <a:ext cx="9072360" cy="56109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olorado State Univ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Dave Randall, Ross Heike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NN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Karen Schuchardt, Bruce Palmer, Annette Koonz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LBN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Janet Jacobsen, Wes Bethel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ark Howis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Katie Antypas, John Shalf, Shane Can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team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968120" y="498600"/>
            <a:ext cx="5994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VisIt Update (Hank’s par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503280" y="1768320"/>
            <a:ext cx="90723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100800" tIns="100800" bIns="50400" anchor="t">
            <a:spAutoFit/>
          </a:bodyPr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roject is doing very wel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There is an upcoming slide on partner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uch more like an open source projec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SVN repo at LBL through SciDAC Outreach Cen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ailing lists at ORN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~200 people on users lis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isitusers.org Wik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Wiki for developers and us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Tutorials (at SciDAC conf, Snowbird, PPPL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60800" y="380880"/>
            <a:ext cx="94114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kely upcoming features in the next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380880" y="1569960"/>
            <a:ext cx="9072720" cy="55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100800" tIns="100800" bIns="50400" anchor="t">
            <a:spAutoFit/>
          </a:bodyPr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SciDAC stuf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oincare plo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ntegration of FastBi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isTrails (?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Non-SciDAC stuf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Qt4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arallel Pyth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Hopefully more for in-situ, multi-res, and time-varying dat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+ a lot mor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4720" y="167760"/>
            <a:ext cx="907272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VisIt has a rapidly growing developer community.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rcRect l="680392" t="1246919" r="1751337" b="766947"/>
          <a:stretch/>
        </p:blipFill>
        <p:spPr>
          <a:xfrm>
            <a:off x="8121600" y="4116240"/>
            <a:ext cx="1959120" cy="344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4d4d6"/>
            </a:outerShdw>
          </a:effectLst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888240" cy="4681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0" y="3948120"/>
            <a:ext cx="2016000" cy="2184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C / 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ic Brugger (P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thleen B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k Chi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rus Har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d Whit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2687760"/>
            <a:ext cx="1847880" cy="100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L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nther W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b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6132600"/>
            <a:ext cx="2016000" cy="1006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k Chi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d Whit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964120" y="4619520"/>
            <a:ext cx="2016360" cy="126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OR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n Ah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remy Mered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Pugm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81080" y="3505320"/>
            <a:ext cx="23878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UCDa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oph G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iver Rue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ard Di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8120" y="2819520"/>
            <a:ext cx="2184120" cy="75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UUt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sh Stra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016000" y="6132600"/>
            <a:ext cx="2016360" cy="1006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NEP/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Bre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k Chi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064360" y="4200480"/>
            <a:ext cx="2016360" cy="92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t Whe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ul Sel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064360" y="5880240"/>
            <a:ext cx="2016360" cy="923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ien Vivodtz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5880240"/>
            <a:ext cx="2016360" cy="1427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NL Institu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n Ah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mison Dan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remy Mered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Pugm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1679400"/>
            <a:ext cx="1847880" cy="1008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BL Institu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nther W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b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32120" y="2100240"/>
            <a:ext cx="1847880" cy="671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L Institu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m Galbra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76960" y="3611520"/>
            <a:ext cx="1847880" cy="671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NL Institu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y Hud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63880" y="6551640"/>
            <a:ext cx="2016360" cy="1008000"/>
          </a:xfrm>
          <a:prstGeom prst="rect">
            <a:avLst/>
          </a:prstGeom>
          <a:solidFill>
            <a:srgbClr val="ffff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DRD/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iel La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k Chi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016000" y="5375160"/>
            <a:ext cx="2016360" cy="757440"/>
          </a:xfrm>
          <a:prstGeom prst="rect">
            <a:avLst/>
          </a:prstGeom>
          <a:solidFill>
            <a:srgbClr val="ffff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il $ to 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ic Bru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4662360"/>
            <a:ext cx="2268360" cy="671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CDavis: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And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728120" y="2940120"/>
            <a:ext cx="2016000" cy="587160"/>
          </a:xfrm>
          <a:prstGeom prst="rect">
            <a:avLst/>
          </a:prstGeom>
          <a:solidFill>
            <a:srgbClr val="ffff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H: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Fo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92960" y="3527280"/>
            <a:ext cx="1679760" cy="588960"/>
          </a:xfrm>
          <a:prstGeom prst="rect">
            <a:avLst/>
          </a:prstGeom>
          <a:solidFill>
            <a:srgbClr val="ffff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TT (Indus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t F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35880" y="1511280"/>
            <a:ext cx="3024000" cy="1344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Times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more partnerships coming soon (NSF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Times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contributions from people not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0" y="1538640"/>
            <a:ext cx="9072720" cy="578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Support fo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Cloud Resolving Model Simul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VACET All-Hands Mee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IEEE Vis 200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4495680"/>
            <a:ext cx="40924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PRABH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502920" y="1767960"/>
            <a:ext cx="9072360" cy="50468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SciDAC/INCIT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I: Dave Randall (CSU)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2008 INCITE award at NERSC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ulti-institution collaboration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CSU researchers developing the climate simulati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NNL researchers developing the Data API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ACET researchers helping w/ Data model, Parallel IO and Vi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2920" y="1767960"/>
            <a:ext cx="9402840" cy="54615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atmospheric circulation mod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non-hydrostatic dynamical co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cloud microphysics, turbulence, radi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coupled to land-surface mod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3km grid-cell spac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Planned runs on 20K+ franklin cor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Planned 1:1 simulated:wall_clock ti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Data throughpu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~1TB/h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2GB/s aggregate IO performance require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~500M cells*100 layers, 50 variab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1" descr=""/>
          <p:cNvPicPr/>
          <p:nvPr/>
        </p:nvPicPr>
        <p:blipFill>
          <a:blip r:embed="rId1"/>
          <a:stretch/>
        </p:blipFill>
        <p:spPr>
          <a:xfrm>
            <a:off x="463680" y="652320"/>
            <a:ext cx="9082080" cy="7858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502920" y="1767960"/>
            <a:ext cx="9072360" cy="2819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Identify a data model for GCRM cod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Enable simulation code to do efficient parallel IO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ualization and Analysis on extremely large icosahedral meshe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502920" y="1767960"/>
            <a:ext cx="9072360" cy="34275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en-GB" sz="3500" spc="-1" strike="noStrike" baseline="33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 Phase: NetCDF-3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etadata convention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Icosahedral m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esh variables/layout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spcBef>
                <a:spcPts val="649"/>
              </a:spcBef>
              <a:buClr>
                <a:srgbClr val="e66c7d"/>
              </a:buClr>
              <a:buFont typeface="Arial"/>
              <a:buChar char="▪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ell/corner/edge/face centered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spcBef>
                <a:spcPts val="649"/>
              </a:spcBef>
              <a:buClr>
                <a:srgbClr val="e66c7d"/>
              </a:buClr>
              <a:buFont typeface="Arial"/>
              <a:buChar char="▪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satisfy VisIt plugin requirement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2</a:t>
            </a:r>
            <a:r>
              <a:rPr b="0" lang="en-GB" sz="3500" spc="-1" strike="noStrike" baseline="33000">
                <a:solidFill>
                  <a:srgbClr val="000000"/>
                </a:solidFill>
                <a:latin typeface="Corbel"/>
              </a:rPr>
              <a:t>nd</a:t>
            </a: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 Phase NetCDF-4 (HDF5)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502920" y="1768320"/>
            <a:ext cx="9072360" cy="563508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Need sustained 2+GB/s collective IO to single shared fil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urrent franklin performance ~0.3-1.2 GB/s (for single file)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Large number of IOR tests examining factor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O pattern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lustre strip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blocking/transfer size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#IO nodes, #OST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502920" y="1768320"/>
            <a:ext cx="9072360" cy="567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Issues identified with Cray's mpich implementation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ot sufficiently aware of OST strip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odifying HDF5 to align/pad to OST stripe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urrent best strategy is to us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2-phase IO (use aggregator nodes)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#IO nodes = #OSTs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Match file transfer size to stripe width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Simulate ‘file-per-process’ IO pattern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502920" y="1768320"/>
            <a:ext cx="9072360" cy="392328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plugin developed to load icosahedral NetCDF mesh data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reliminary custom visualizations rendered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Online tutorials and startup instructions published at: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http://vis.lbl.gov/~prabhat/Incite19/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LNL User</cp:lastModifiedBy>
  <dcterms:modified xsi:type="dcterms:W3CDTF">2008-10-22T12:52:41Z</dcterms:modified>
  <cp:revision>19</cp:revision>
  <dc:subject/>
  <dc:title>Slide 1</dc:title>
</cp:coreProperties>
</file>